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41D8-C8B5-4361-BBA5-F3E9CB87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42720" y="572940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31B-BA83-4A38-8EAE-A3E7F5D6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5053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0A9-E83B-4890-AB91-908013F0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42964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1656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4272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42964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51656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2A6-B661-4487-970D-1C416831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66D5-6518-4406-86ED-FBB3AE03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0527-59E3-45C3-BCF2-53C2C695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0921-6C53-4EE8-AFDF-576EB7AB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0AB5-1FDA-4197-953A-EFA632A7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F58C-83DC-428F-9FD6-B876FA16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42720" y="228600"/>
            <a:ext cx="6172200" cy="84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5D1A-9901-490A-A8D4-6834DEE2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F4F8-181C-47D4-8E33-9C5D57C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5F7-BDB7-4D3C-90E0-2B90C30E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5053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0B8A-D204-4EA1-90F4-740F09B9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E9D1-BC34-4008-A7BB-3FB1EC13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2720" y="572940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6F56-E67F-4545-B6C9-6E1FD3A1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35053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34AB-2C3C-4906-9BA7-1CA6ACBE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2964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1656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4272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242964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451656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5E6B-0E83-416B-AA67-D4279158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623-C699-44DD-9537-B920EBD0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54E2-5E5E-4589-AD77-B6FB94D9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91D-78A7-435E-A516-F616094E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42720" y="228600"/>
            <a:ext cx="6172200" cy="84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FCE-21CD-421E-8285-6D6CC731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84E-ACCE-4F3B-BF21-576C60B9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053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B93-2BD7-459E-B2E0-0F4BF89B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C79-4F24-4F0D-9884-6B62BD9D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6560" cy="9896040"/>
            <a:chOff x="0" y="0"/>
            <a:chExt cx="6856560" cy="9896040"/>
          </a:xfrm>
        </p:grpSpPr>
        <p:sp>
          <p:nvSpPr>
            <p:cNvPr id="1" name=""/>
            <p:cNvSpPr/>
            <p:nvPr/>
          </p:nvSpPr>
          <p:spPr>
            <a:xfrm>
              <a:off x="2157480" y="6445440"/>
              <a:ext cx="4698720" cy="345024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792680" y="8316360"/>
              <a:ext cx="2063520" cy="1579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6642000" cy="790344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884920" y="0"/>
              <a:ext cx="971280" cy="6325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4548960"/>
              <a:ext cx="6856560" cy="481032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233640"/>
              <a:ext cx="2334960" cy="290016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5607360" cy="66520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492800" cy="540180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3492720" cy="423252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5720" y="6527520"/>
              <a:ext cx="1777680" cy="46764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63040" y="7119360"/>
              <a:ext cx="1080" cy="252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3040" y="7119360"/>
              <a:ext cx="1080" cy="252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228600" y="5236920"/>
              <a:ext cx="1492920" cy="2115720"/>
              <a:chOff x="228600" y="5236920"/>
              <a:chExt cx="1492920" cy="2115720"/>
            </a:xfrm>
          </p:grpSpPr>
          <p:sp>
            <p:nvSpPr>
              <p:cNvPr id="14" name=""/>
              <p:cNvSpPr/>
              <p:nvPr/>
            </p:nvSpPr>
            <p:spPr>
              <a:xfrm>
                <a:off x="485640" y="6898680"/>
                <a:ext cx="55800" cy="133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85760" y="5236920"/>
                <a:ext cx="385560" cy="37116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28600" y="5236920"/>
                <a:ext cx="1492920" cy="211572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13960" y="6211080"/>
                <a:ext cx="56160" cy="17856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8560" y="5897160"/>
                <a:ext cx="177120" cy="9601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357200" y="5580360"/>
                <a:ext cx="198720" cy="3164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28600" y="5305320"/>
                <a:ext cx="134640" cy="26136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335960" y="5910480"/>
                <a:ext cx="78480" cy="13752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21400" y="6130800"/>
                <a:ext cx="191520" cy="410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77320" y="6334560"/>
                <a:ext cx="86760" cy="1234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42680" y="6623640"/>
                <a:ext cx="14040" cy="1234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85720" y="6926400"/>
                <a:ext cx="56880" cy="1645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20200" y="6939720"/>
                <a:ext cx="342720" cy="19260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85680" y="6884640"/>
                <a:ext cx="78480" cy="24768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435600" y="7132680"/>
                <a:ext cx="91800" cy="96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92560" y="7256520"/>
                <a:ext cx="78480" cy="6840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000080" y="6692400"/>
                <a:ext cx="21600" cy="1375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49800" y="6926400"/>
                <a:ext cx="6840" cy="410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635760" y="6747480"/>
                <a:ext cx="35640" cy="17856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42600" y="6967440"/>
                <a:ext cx="28440" cy="55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53280" y="6146640"/>
                <a:ext cx="255960" cy="49536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637920" y="6213240"/>
                <a:ext cx="252000" cy="410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234440" y="5981760"/>
                <a:ext cx="75960" cy="18072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032120" y="5664960"/>
                <a:ext cx="163080" cy="4744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72720" y="5747760"/>
                <a:ext cx="77040" cy="50868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342720" y="9018720"/>
            <a:ext cx="16002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4914720" y="9018720"/>
            <a:ext cx="16002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0610-4CFC-45C3-9524-BDEC37AAAF18}" type="slidenum">
              <a:rPr b="0" lang="en-N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6856560" cy="9896040"/>
            <a:chOff x="0" y="0"/>
            <a:chExt cx="6856560" cy="9896040"/>
          </a:xfrm>
        </p:grpSpPr>
        <p:sp>
          <p:nvSpPr>
            <p:cNvPr id="81" name=""/>
            <p:cNvSpPr/>
            <p:nvPr/>
          </p:nvSpPr>
          <p:spPr>
            <a:xfrm>
              <a:off x="2157480" y="6445440"/>
              <a:ext cx="4698720" cy="345024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92680" y="8316360"/>
              <a:ext cx="2063520" cy="1579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6642000" cy="790344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84920" y="0"/>
              <a:ext cx="971280" cy="6325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548960"/>
              <a:ext cx="6856560" cy="481032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233640"/>
              <a:ext cx="2334960" cy="290016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5607360" cy="66520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4492800" cy="540180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3492720" cy="423252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5720" y="6527520"/>
              <a:ext cx="1777680" cy="46764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3040" y="7119360"/>
              <a:ext cx="1080" cy="252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3040" y="7119360"/>
              <a:ext cx="1080" cy="252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8600" y="5236920"/>
              <a:ext cx="1492920" cy="2115720"/>
              <a:chOff x="228600" y="5236920"/>
              <a:chExt cx="1492920" cy="2115720"/>
            </a:xfrm>
          </p:grpSpPr>
          <p:sp>
            <p:nvSpPr>
              <p:cNvPr id="94" name=""/>
              <p:cNvSpPr/>
              <p:nvPr/>
            </p:nvSpPr>
            <p:spPr>
              <a:xfrm>
                <a:off x="485640" y="6898680"/>
                <a:ext cx="55800" cy="133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85760" y="5236920"/>
                <a:ext cx="385560" cy="37116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600" y="5236920"/>
                <a:ext cx="1492920" cy="211572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13960" y="6211080"/>
                <a:ext cx="56160" cy="17856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28560" y="5897160"/>
                <a:ext cx="177120" cy="9601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57200" y="5580360"/>
                <a:ext cx="198720" cy="3164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28600" y="5305320"/>
                <a:ext cx="134640" cy="26136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35960" y="5910480"/>
                <a:ext cx="78480" cy="13752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121400" y="6130800"/>
                <a:ext cx="191520" cy="410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77320" y="6334560"/>
                <a:ext cx="86760" cy="1234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2680" y="6623640"/>
                <a:ext cx="14040" cy="1234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5720" y="6926400"/>
                <a:ext cx="56880" cy="1645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20200" y="6939720"/>
                <a:ext cx="342720" cy="19260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85680" y="6884640"/>
                <a:ext cx="78480" cy="24768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5600" y="7132680"/>
                <a:ext cx="91800" cy="96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2560" y="7256520"/>
                <a:ext cx="78480" cy="6840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00080" y="6692400"/>
                <a:ext cx="21600" cy="1375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49800" y="6926400"/>
                <a:ext cx="6840" cy="410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35760" y="6747480"/>
                <a:ext cx="35640" cy="17856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42600" y="6967440"/>
                <a:ext cx="28440" cy="55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53280" y="6146640"/>
                <a:ext cx="255960" cy="49536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37920" y="6213240"/>
                <a:ext cx="252000" cy="410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234440" y="5981760"/>
                <a:ext cx="75960" cy="18072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32120" y="5664960"/>
                <a:ext cx="163080" cy="4744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72720" y="5747760"/>
                <a:ext cx="77040" cy="50868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2090880"/>
            <a:ext cx="582912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E8B1-D979-46C0-86F0-D2B439CBE2ED}" type="slidenum">
              <a:rPr b="0" lang="en-N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6280" y="992160"/>
            <a:ext cx="582912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49360" y="3368520"/>
            <a:ext cx="5688000" cy="37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L2 NCE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chievement Standard 2.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ext Book reference: Chapters 2-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Kinematic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o solve problems involving objects moving in straight lines with constant acceler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erms us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d=distance/displacement (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=initial velocity (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=final velocity (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=acceleration (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=time 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Kinematic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84280" y="2576520"/>
                <a:ext cx="359892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484280" y="3800520"/>
                <a:ext cx="360036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371600" y="5989680"/>
                <a:ext cx="44337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25360" y="7400880"/>
                <a:ext cx="47530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1773360" y="92012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(Do Page 33 Questions 2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 vector is drawn as a straight, arrowed li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arrow points in the direction of the v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length of the line represents the size of the quant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765000" y="653724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1360" y="7473960"/>
            <a:ext cx="1295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645000" y="6897240"/>
            <a:ext cx="718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9000" y="88408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Vectors can be multiplied or divided by a sca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is will change the length of the v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 negative scalar will reverse the di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g Force F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So 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2F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1/2F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-3F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499920" y="5889600"/>
            <a:ext cx="2737080" cy="1727280"/>
            <a:chOff x="3499920" y="5889600"/>
            <a:chExt cx="2737080" cy="1727280"/>
          </a:xfrm>
        </p:grpSpPr>
        <p:sp>
          <p:nvSpPr>
            <p:cNvPr id="235" name=""/>
            <p:cNvSpPr/>
            <p:nvPr/>
          </p:nvSpPr>
          <p:spPr>
            <a:xfrm>
              <a:off x="3860640" y="588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33720" y="646596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49720" y="69692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499920" y="7616880"/>
              <a:ext cx="27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9920" y="1424160"/>
            <a:ext cx="6255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Vectors can be added toge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is is done by drawing them “head to tail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e result is a vector called a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Verdana"/>
              </a:rPr>
              <a:t>resultant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. The resultant has the same effect as the 2 vectors combin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e order in which they are added does not mat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Eg d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+d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557360" y="5745240"/>
            <a:ext cx="4392360" cy="3629880"/>
            <a:chOff x="1557360" y="5745240"/>
            <a:chExt cx="4392360" cy="3629880"/>
          </a:xfrm>
        </p:grpSpPr>
        <p:sp>
          <p:nvSpPr>
            <p:cNvPr id="242" name=""/>
            <p:cNvSpPr/>
            <p:nvPr/>
          </p:nvSpPr>
          <p:spPr>
            <a:xfrm>
              <a:off x="1557360" y="6701040"/>
              <a:ext cx="257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87240" y="5745240"/>
              <a:ext cx="0" cy="15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36760" y="7846200"/>
              <a:ext cx="0" cy="15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57360" y="7846200"/>
              <a:ext cx="257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57360" y="7846200"/>
              <a:ext cx="2579400" cy="15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1360" y="6126120"/>
              <a:ext cx="858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82280" y="6126120"/>
              <a:ext cx="667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43560" y="8610840"/>
              <a:ext cx="1242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+ d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Vectors can be subtra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is is done by adding a negative v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Order does matt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g. 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197000" y="5240160"/>
            <a:ext cx="4392720" cy="3630600"/>
            <a:chOff x="1197000" y="5240160"/>
            <a:chExt cx="4392720" cy="3630600"/>
          </a:xfrm>
        </p:grpSpPr>
        <p:sp>
          <p:nvSpPr>
            <p:cNvPr id="253" name=""/>
            <p:cNvSpPr/>
            <p:nvPr/>
          </p:nvSpPr>
          <p:spPr>
            <a:xfrm>
              <a:off x="1197000" y="6195960"/>
              <a:ext cx="257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27600" y="5240160"/>
              <a:ext cx="0" cy="15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776760" y="7342200"/>
              <a:ext cx="0" cy="15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97000" y="8854920"/>
              <a:ext cx="257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197000" y="7342200"/>
              <a:ext cx="2579760" cy="15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51000" y="5621040"/>
              <a:ext cx="858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22640" y="562104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57360" y="7702560"/>
              <a:ext cx="1243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- v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33720" y="7991280"/>
              <a:ext cx="1079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-v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Vectors can be resolved into compon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is is done using SOHCAHTOA and/or a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+b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=c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20640" y="5097600"/>
            <a:ext cx="5732640" cy="3895920"/>
            <a:chOff x="620640" y="5097600"/>
            <a:chExt cx="5732640" cy="3895920"/>
          </a:xfrm>
        </p:grpSpPr>
        <p:sp>
          <p:nvSpPr>
            <p:cNvPr id="265" name=""/>
            <p:cNvSpPr/>
            <p:nvPr/>
          </p:nvSpPr>
          <p:spPr>
            <a:xfrm>
              <a:off x="1817640" y="5097600"/>
              <a:ext cx="0" cy="345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17640" y="8553600"/>
              <a:ext cx="453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817640" y="5600880"/>
              <a:ext cx="3456000" cy="29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73640" y="5600880"/>
              <a:ext cx="0" cy="295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817640" y="560088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17640" y="855360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817640" y="5600880"/>
              <a:ext cx="0" cy="29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94000" y="86252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Horizontal 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0640" y="6032880"/>
              <a:ext cx="1557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Vert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44920" y="63216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94000" y="8121960"/>
              <a:ext cx="215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81280" y="7977600"/>
              <a:ext cx="2016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989000" y="9539280"/>
            <a:ext cx="33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(Do Page 43 Questions 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lative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8942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e velocity of one object in relation to another obje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e velocity an object appears to move at may change if the object measuring is also mov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e velocity of B relative to A can be calculated by doing this vector subtraction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125360" y="6969240"/>
                <a:ext cx="4535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rel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700280" y="91296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(Do Page 49 Questions 3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71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 force causes the motion or shape of an object to </a:t>
            </a: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chan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Force is a vector quantity so must have </a:t>
            </a: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both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a size and a di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Force is measured in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Newtons 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resultant 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(or </a:t>
            </a: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net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) force is produced when 2 or more forces act on an object. These forces can be added to find the resulta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10280" cy="71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Newtons First Law Of Motio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NZ" sz="2800" spc="-1" strike="noStrike">
                <a:solidFill>
                  <a:srgbClr val="000000"/>
                </a:solidFill>
                <a:latin typeface="Verdana"/>
              </a:rPr>
              <a:t>An object will remain in it’s current state of motion until a force acts to change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Newton’s Second Law Of Motio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NZ" sz="2800" spc="-1" strike="noStrike">
                <a:solidFill>
                  <a:srgbClr val="000000"/>
                </a:solidFill>
                <a:latin typeface="Verdana"/>
              </a:rPr>
              <a:t>The acceleration of an object is proportional to the net force appli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Law 2 can be written like this for shor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773360" y="7689960"/>
                <a:ext cx="300960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calars and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scalar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quantity is one that has a size (or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magnitude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)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g. Mass, energy,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vector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quantity is one that has a size </a:t>
            </a:r>
            <a:r>
              <a:rPr b="0" i="1" lang="en-NZ" sz="32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a di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g. Force, velocity, moment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Newton’s Third Law Of Motion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Verdana"/>
              </a:rPr>
              <a:t>For every action there is an equal and opposite reac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3000" y="178452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Fric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Friction occurs when two surfaces move past each other. One of these surfaces could be air – eg air resistance is a frictional for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Friction is a force that always opposes the direction of the mo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Friction is sometimes called: drag, water resistance, air resistance or the retarding for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-90972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49360" y="1064880"/>
            <a:ext cx="5533920" cy="82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Verdana"/>
              </a:rPr>
              <a:t>Tens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is is the force that occurs in connecting strings and ro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ension pulls in both directions along the string or rop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Verdana"/>
              </a:rPr>
              <a:t>Weigh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is is the force of gravity pulling downwards on an obje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Weight can be calcula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g is acceleration due to gravity and has a value of 10ms</a:t>
            </a:r>
            <a:r>
              <a:rPr b="0" lang="en-NZ" sz="28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 on Ea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133720" y="6681960"/>
                <a:ext cx="3009960" cy="12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1700280" y="953928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(Do Page 55 Questions 4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or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596556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orque causes things to sp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Symbol: 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(Greek letter Tau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Units: N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size of a torque depends on the size of the force and the perpendicular distance from the pivot to where the force is appli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989000" y="8048520"/>
                <a:ext cx="30099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d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632592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n object is at equilibrium if it is at rest or moving uniformly (First Law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wo conditions appl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ll the forces acting on the  object must add to zero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ll the torques acting on the object must add to zer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2060640" y="6969240"/>
            <a:ext cx="3384360" cy="24145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700280" y="93456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(Do page 63 Questions 4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58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amount of “ooomph” an object ha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Momentum depends on the mass of an object and it’s velocit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Symbol: 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Unit: kg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Momentum is a vecto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Momenum can be calculated using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628640" y="7905600"/>
                <a:ext cx="3816360" cy="13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4280" y="2215800"/>
            <a:ext cx="61722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If a force acts on an object, it’s momentum will chan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change in momentum can be calculated by </a:t>
            </a: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ubtracting vecto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Change in momentum =final momentum – initial momentu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52640" y="7616880"/>
                <a:ext cx="504036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When a resultant force acts on an object, the amount it changes the object’s momentum by depends on how long the force acts f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e force multiplied by the time it acts for is called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Verdana"/>
              </a:rPr>
              <a:t>impulse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Units: 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Impulse equals the change in momentu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628640" y="7905600"/>
                <a:ext cx="381636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Δt</m:t>
                    </m:r>
                    <m:r>
                      <m:t xml:space="preserve">=</m:t>
                    </m:r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1268280" y="934560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(Do Page 73 Questions 5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nservation of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8156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conservation of momentum principle states: Momentum is conserved in collisions and explosions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as long as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there is no net external force acting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is means the momentum before equals the momentum aft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60280" y="7616880"/>
                <a:ext cx="6597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nservation of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same principle applies in 2 dimens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vector representing the sum of the momentums before must be the same vector as the one representing the sums aft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1628640" y="90565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Do Page 79 Questions 5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0640" y="2289240"/>
          <a:ext cx="5607000" cy="3195360"/>
        </p:xfrm>
        <a:graphic>
          <a:graphicData uri="http://schemas.openxmlformats.org/drawingml/2006/table">
            <a:tbl>
              <a:tblPr/>
              <a:tblGrid>
                <a:gridCol w="2803320"/>
                <a:gridCol w="2803680"/>
              </a:tblGrid>
              <a:tr h="21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cal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far in total the object has mo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bol: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: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92280" y="5745240"/>
          <a:ext cx="5472000" cy="33559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lac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ve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far the object ends up from it’s starting 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bol:</a:t>
                      </a: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 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 </a:t>
                      </a: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: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tion due to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75920" y="2288880"/>
            <a:ext cx="5894280" cy="65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ll objects accelerate towards the ground at (-) 10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because of gravity when dropp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is acceleration is fairly constant at the Earth’s surface, but varies at great altitudes or on other planet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Gravity is always an attractive force unlike magnetism or electric forc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1700280" y="91296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Do Page 86 Questions 6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33000" y="200160"/>
            <a:ext cx="61722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2720" y="1496520"/>
            <a:ext cx="61722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Projectile motion is a parabolic shaped motion experienced by moving objects that have only the force due to gravity acting on them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g. Bullets,shotputs,netballs, water j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49360" y="6321600"/>
            <a:ext cx="5832360" cy="3311280"/>
            <a:chOff x="549360" y="6321600"/>
            <a:chExt cx="5832360" cy="3311280"/>
          </a:xfrm>
        </p:grpSpPr>
        <p:sp>
          <p:nvSpPr>
            <p:cNvPr id="324" name=""/>
            <p:cNvSpPr/>
            <p:nvPr/>
          </p:nvSpPr>
          <p:spPr>
            <a:xfrm>
              <a:off x="549360" y="6321600"/>
              <a:ext cx="5832360" cy="33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30440" y="6681600"/>
              <a:ext cx="2087640" cy="287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57360" y="8121600"/>
              <a:ext cx="2305080" cy="151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41720" y="8121600"/>
              <a:ext cx="30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09720" y="6824520"/>
              <a:ext cx="1871640" cy="25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5000" y="8121600"/>
              <a:ext cx="2160720" cy="136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9720" y="6824520"/>
              <a:ext cx="936360" cy="1296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82440" y="8121600"/>
              <a:ext cx="23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65360" y="7329240"/>
              <a:ext cx="730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02080" y="7184880"/>
              <a:ext cx="7164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33000" y="200160"/>
            <a:ext cx="6172200" cy="12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33000" y="1639800"/>
            <a:ext cx="6172200" cy="74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When dealing with projectiles, the horizontal and vertical components are treated separate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horizontal motion is constant velocity (as there are no forces acting in this direction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vertical motion is constant acceleration of 10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due to the force of gravit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Kinematic Equations are used to solve proble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2133720" y="92012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Do Page 89 Questions 6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ircular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81560" cy="54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Period of Rotation T - time it takes to make one rotation (revolution, cycl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Measured in seconds 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Frequency f – number of rotations completed per seco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Measured in Hertz Hz or 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 and f are inverses of each oth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500280" y="7184880"/>
                <a:ext cx="206712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ircular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59655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Circumference – distance travelled in one rotation (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speed of an object moving in a circle can be calculated b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052640" y="4089240"/>
                <a:ext cx="51130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ircumference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97000" y="7545240"/>
                <a:ext cx="417672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ircular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n object moving in a circle may be travelling at constant speed, but because its direction is always changing, its velocity is changing…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If velocity is changing, the object is accelerating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If an object is accelerating, there must be a net force acting on it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ircular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force acting on an object in circular motion is in towards the centre of the circle, changing the objects direction but not its spe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is is called centripetal for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is force causes a centripetal acceleration towards the centre of the circ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ircular Mo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5175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Centripetal force and acceleration can be calculated using the following formula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v=speed(ms</a:t>
            </a:r>
            <a:r>
              <a:rPr b="0" lang="en-NZ" sz="28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r=radius of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005360" y="3657600"/>
                <a:ext cx="2592360" cy="21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6321600"/>
                <a:ext cx="3009960" cy="19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1557360" y="91296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Do Page 98 Questions 7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9920" y="2289240"/>
            <a:ext cx="6264360" cy="69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three kinds of mechanical energy are: kinetic, gravitational and elasti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nergy E is measured in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Joules 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Work W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is the process of transforming energy from one kind to anoth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d is the distance moved in the direction of the for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844640" y="6753240"/>
                <a:ext cx="3009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d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51492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If an object is lifted against gravity, work is done transforming chemical energy(muscles) into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gravitational potential energy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force needed is the weight force of the object, the distance moved is the change in heigh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268280" y="7545240"/>
                <a:ext cx="475308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d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</m:acc>
                        <m:sSub>
                          <m:e>
                            <m:r>
                              <m:t xml:space="preserve">Δ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)</m:t>
                        </m:r>
                        <m:r>
                          <m:t xml:space="preserve">Δ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20640" y="2289240"/>
          <a:ext cx="5616720" cy="302400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cal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fast an object is travel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bol: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: ms</a:t>
                      </a:r>
                      <a:r>
                        <a:rPr b="0" lang="en-NZ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49360" y="6032520"/>
          <a:ext cx="5688000" cy="2808360"/>
        </p:xfrm>
        <a:graphic>
          <a:graphicData uri="http://schemas.openxmlformats.org/drawingml/2006/table">
            <a:tbl>
              <a:tblPr/>
              <a:tblGrid>
                <a:gridCol w="2808360"/>
                <a:gridCol w="287964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lo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Ve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speed and direction that an object is travel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bol: </a:t>
                      </a: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: ms</a:t>
                      </a:r>
                      <a:r>
                        <a:rPr b="0" lang="en-NZ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8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ny moving object ha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kinetic energ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Doubling the speed increases the energy by four. (Squared relationship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When moving objects stop, this energy is transformed into other forms, eg sound, he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484280" y="7689960"/>
                <a:ext cx="4535640" cy="15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815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Power P is the rate at which work is do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Measured in Watts W (or J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133720" y="4808520"/>
                <a:ext cx="233028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nservation of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conservation of energy principle states: Energy cannot be created or destroyed, only transformed from one kind to anoth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nergy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514920" cy="45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Often some of the forms it is transformed into are not useful. The energy is “lost” to 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efficiency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of an object is a measure of the ratio of input energy to useful output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0" y="6681960"/>
                <a:ext cx="6597720" cy="102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iciency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seful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utpu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nergy</m:t>
                              </m:r>
                            </m:e>
                          </m:mr>
                        </m:m>
                      </m:num>
                      <m:den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pu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nergy</m:t>
                              </m:r>
                            </m:e>
                          </m:mr>
                        </m:m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p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nergy can be stored in a spring a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elastic potential energy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Hookes Law: F=k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F=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k=spring constant (Nm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) – a measure of how stiff or soft a spring i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x=extension (m) – the amount a spring is stretched or compressed when the force is appli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p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75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Hooke’s Law as a graph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76280" y="3081240"/>
            <a:ext cx="5832360" cy="5471640"/>
            <a:chOff x="476280" y="3081240"/>
            <a:chExt cx="5832360" cy="5471640"/>
          </a:xfrm>
        </p:grpSpPr>
        <p:grpSp>
          <p:nvGrpSpPr>
            <p:cNvPr id="375" name=""/>
            <p:cNvGrpSpPr/>
            <p:nvPr/>
          </p:nvGrpSpPr>
          <p:grpSpPr>
            <a:xfrm>
              <a:off x="476280" y="3081240"/>
              <a:ext cx="5832360" cy="5471640"/>
              <a:chOff x="476280" y="3081240"/>
              <a:chExt cx="5832360" cy="5471640"/>
            </a:xfrm>
          </p:grpSpPr>
          <p:sp>
            <p:nvSpPr>
              <p:cNvPr id="376" name=""/>
              <p:cNvSpPr/>
              <p:nvPr/>
            </p:nvSpPr>
            <p:spPr>
              <a:xfrm>
                <a:off x="476280" y="3081240"/>
                <a:ext cx="5832360" cy="547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97000" y="4069080"/>
                <a:ext cx="0" cy="395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97000" y="7702560"/>
                <a:ext cx="439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00280" y="5060880"/>
                <a:ext cx="180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Verdana"/>
                  </a:rPr>
                  <a:t>Gradient =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292640" y="7798320"/>
                <a:ext cx="194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Verdana"/>
                  </a:rPr>
                  <a:t>Extension (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7560" y="3461760"/>
                <a:ext cx="25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Verdana"/>
                  </a:rPr>
                  <a:t>Force (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 flipH="1">
              <a:off x="1197000" y="3929760"/>
              <a:ext cx="4248000" cy="3745800"/>
            </a:xfrm>
            <a:prstGeom prst="rtTriangle">
              <a:avLst/>
            </a:prstGeom>
            <a:solidFill>
              <a:srgbClr val="cdcd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37000" y="6382080"/>
              <a:ext cx="27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Area under graph = energy stored in sp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p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096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lastic potential energy can be found by calculating the area under a Hooke’s Law graph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549600" y="3192480"/>
                <a:ext cx="3308400" cy="31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t xml:space="preserve">h</m:t>
                        </m:r>
                      </m:e>
                      <m:e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Fx</m:t>
                        </m:r>
                      </m:e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</m:acc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1197000" y="905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Do Page 107 Questions 8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3000" y="1784160"/>
            <a:ext cx="6172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 person sits in a car with a suspension of spring constant 10</a:t>
            </a:r>
            <a:r>
              <a:rPr b="0" lang="en-NZ" sz="4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en-NZ" sz="4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If the suspension is compressed 1.0 cm how much energy is stored in the spr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=1/2kx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=0.5 x 10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4 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x (0.01)</a:t>
            </a:r>
            <a:r>
              <a:rPr b="0" lang="en-NZ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=0.5 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965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Velocity is calculated b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4640" y="4665600"/>
            <a:ext cx="6110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Where d is displacement, t is time and </a:t>
            </a:r>
            <a:r>
              <a:rPr b="0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 means “the change in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Velocity may refer to either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Verdana"/>
              </a:rPr>
              <a:t>average 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velocity or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Verdana"/>
              </a:rPr>
              <a:t>instantaneous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 veloc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Verdana"/>
              </a:rPr>
              <a:t>Constant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 velocity means that neither the speed </a:t>
            </a: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nor</a:t>
            </a: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 the direction of the objects motion is chang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628640" y="3152880"/>
                <a:ext cx="30099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locity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d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61722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4640" y="5889600"/>
            <a:ext cx="6120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Acceleration can be calculated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76280" y="2311560"/>
          <a:ext cx="6039000" cy="3195360"/>
        </p:xfrm>
        <a:graphic>
          <a:graphicData uri="http://schemas.openxmlformats.org/drawingml/2006/table">
            <a:tbl>
              <a:tblPr/>
              <a:tblGrid>
                <a:gridCol w="3019320"/>
                <a:gridCol w="3019680"/>
              </a:tblGrid>
              <a:tr h="23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le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Ve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rate at which the velocity of an object is chan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bol: </a:t>
                      </a: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: ms</a:t>
                      </a:r>
                      <a:r>
                        <a:rPr b="0" lang="en-NZ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5000" y="7040520"/>
                <a:ext cx="23954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61722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1784520"/>
            <a:ext cx="6172200" cy="77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cceleration is used to describe motion where the object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slows down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as well as when it speeds up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Sometimes the word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deceleration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is us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Acceleration is given a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Verdana"/>
              </a:rPr>
              <a:t>negative</a:t>
            </a: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 value when the object is slowing dow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Objects are accelerating when their direction changes, even though their speed may remain consta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484280" y="92743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(Do Page 27Questions 2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4280" y="272520"/>
            <a:ext cx="61722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Graphs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33360" y="1423800"/>
            <a:ext cx="61819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Verdana"/>
              </a:rPr>
              <a:t>Distance / diplacement versus time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0" y="6753240"/>
            <a:ext cx="6858000" cy="31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A=Constant velocity (slo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B=Constant velocity (fas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C=Stop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D=Constant velocity (backwar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E=Constant velocity (backward past starting poi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76280" y="2432160"/>
            <a:ext cx="5832360" cy="4176720"/>
            <a:chOff x="476280" y="2432160"/>
            <a:chExt cx="5832360" cy="4176720"/>
          </a:xfrm>
        </p:grpSpPr>
        <p:sp>
          <p:nvSpPr>
            <p:cNvPr id="185" name=""/>
            <p:cNvSpPr/>
            <p:nvPr/>
          </p:nvSpPr>
          <p:spPr>
            <a:xfrm>
              <a:off x="476280" y="2432160"/>
              <a:ext cx="5832360" cy="417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96640" y="3186720"/>
              <a:ext cx="0" cy="301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96640" y="475308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196640" y="4288680"/>
              <a:ext cx="93492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79560" y="365076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44640" y="3650760"/>
              <a:ext cx="1655280" cy="21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131920" y="3650760"/>
              <a:ext cx="647280" cy="63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39560" y="4289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31920" y="3708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23920" y="3359160"/>
              <a:ext cx="12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76280" y="40564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39920" y="50983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39920" y="44604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Tim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7560" y="2722320"/>
              <a:ext cx="25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Displacement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4280" y="344160"/>
            <a:ext cx="61722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Graphs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4280" y="1352160"/>
            <a:ext cx="6039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Speed / velocity versus time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0" y="6176520"/>
            <a:ext cx="6524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A=Constant acceleration (lo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B=Constant acceleration (hig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C=Constant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D=Constant deceleration to sto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E=Constant acceleration in opposite 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49360" y="2000160"/>
            <a:ext cx="5832360" cy="4176720"/>
            <a:chOff x="549360" y="2000160"/>
            <a:chExt cx="5832360" cy="4176720"/>
          </a:xfrm>
        </p:grpSpPr>
        <p:sp>
          <p:nvSpPr>
            <p:cNvPr id="203" name=""/>
            <p:cNvSpPr/>
            <p:nvPr/>
          </p:nvSpPr>
          <p:spPr>
            <a:xfrm>
              <a:off x="549360" y="2000160"/>
              <a:ext cx="5832360" cy="417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9720" y="2754720"/>
              <a:ext cx="0" cy="301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69720" y="432108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269720" y="3856680"/>
              <a:ext cx="93492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52640" y="321876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17720" y="3218760"/>
              <a:ext cx="1655280" cy="21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205000" y="3218760"/>
              <a:ext cx="647280" cy="63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12640" y="3857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05000" y="3276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97000" y="2927160"/>
              <a:ext cx="12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9360" y="36244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13000" y="46663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13000" y="40284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Tim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0640" y="2290320"/>
              <a:ext cx="25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Velocity (ms</a:t>
              </a:r>
              <a:r>
                <a:rPr b="0" lang="en-NZ" sz="1800" spc="-1" strike="noStrike" baseline="30000">
                  <a:solidFill>
                    <a:srgbClr val="000000"/>
                  </a:solidFill>
                  <a:latin typeface="Verdana"/>
                </a:rPr>
                <a:t>-1</a:t>
              </a:r>
              <a:r>
                <a:rPr b="0" lang="en-NZ" sz="18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197000" y="927432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(Do Page 32 Questions2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0:54:32Z</dcterms:created>
  <dc:creator>Administrator</dc:creator>
  <dc:description/>
  <dc:language>en-US</dc:language>
  <cp:lastModifiedBy>Administrator</cp:lastModifiedBy>
  <dcterms:modified xsi:type="dcterms:W3CDTF">2005-03-24T01:18:00Z</dcterms:modified>
  <cp:revision>16</cp:revision>
  <dc:subject/>
  <dc:title>Slide 1</dc:title>
</cp:coreProperties>
</file>